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819-83C1-4D04-92B4-0191CF7A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8B6-EAA2-4DCF-A26E-B2E897D4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00F-DD1F-40C3-893B-580D2128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1C4-FC14-4B2F-A809-0EF10821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A82-9A3C-489D-8832-29A7E85F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BBE-67C8-4F9B-8A26-A165C385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EF8-A85A-4229-9A39-FD034F08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847-5438-498A-A1D8-FE4AF94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FF1-C36B-4602-9F57-072248F0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697-1D89-47C9-8A7B-25A6AF2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4BB-7410-45A7-A0D4-EA441F9C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300-3BB6-449C-8773-F123950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9724-259E-4CD9-A75B-07B08A9C9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-</cp:lastModifiedBy>
  <dcterms:modified xsi:type="dcterms:W3CDTF">2013-04-29T20:56:43Z</dcterms:modified>
  <cp:revision>10</cp:revision>
  <dc:subject/>
  <dc:title>Слайд 1</dc:title>
</cp:coreProperties>
</file>